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17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6.wmf" ContentType="image/x-wmf"/>
  <Override PartName="/ppt/media/image8.png" ContentType="image/png"/>
  <Override PartName="/ppt/media/image13.png" ContentType="image/pn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BCD3-0263-41D0-9B1C-9C5FC9FF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964-43E6-47E2-8031-EB56E966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03D-BDC0-4517-995B-03947BDB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173A-1CDD-448F-AD4B-1DD70E18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7213-2F50-42F9-A74C-A17C080D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83F5-FF01-48C9-8EF0-B793F7DF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4428-C508-4787-BA1A-691CA7A2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858E-4E74-4DCD-B307-A045DEA5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2550-21CD-4E18-BB19-039A0B5A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EE63-B430-43B2-ABBA-A71D1EF4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DD4F-804E-45BA-AB2F-89378F95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0E17-F0B9-49C5-8E45-BAB01854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2615-3CD7-49F2-80C8-A64FB2C5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30FA-9C7A-4C14-966D-772CF26C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50AE-207C-4E28-81EB-DAE615AE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0430-3EBD-4E54-8BE2-0B69BAFD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457E-7D0F-4EA6-8C0F-0FA2D453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A33D-59A0-4169-A8A4-F3FDDC41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ABF7-EBFE-4B05-9802-1EAFA520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3A75-754A-48FE-AF47-8A13CD2A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3C0-220B-427E-945B-D31BF3B5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104-614C-4B6D-A398-339EB31F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8CAE-2F2B-43E1-8031-6EB48AE5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945-C76E-4E34-BD0D-19DAC723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0DC5-41F2-4BF1-8C18-0593959F0F2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5B07-097E-4E1A-9F6E-2FFC51FF9FB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museoscienza.org/english/leonardo/img/citta1_d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The New Computing:</a:t>
            </a:r>
            <a:br>
              <a:rPr sz="4000"/>
            </a:b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 Ending User Frustration</a:t>
            </a:r>
            <a:br>
              <a:rPr sz="4000"/>
            </a:b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Ben Shneiderman &amp;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Irina Ceaparu, Jonathan Lazar*, 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Katie Bessiere, John Robinson 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Times New Roman"/>
              </a:rPr>
              <a:t>May 2002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hcil-logo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1165320" cy="914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43000" y="5133960"/>
            <a:ext cx="64771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versity of Maryland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Human Computer Interaction Laborator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&amp; *Towson Universit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93204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11068" r="0" b="4502"/>
          <a:stretch/>
        </p:blipFill>
        <p:spPr>
          <a:xfrm>
            <a:off x="457200" y="165240"/>
            <a:ext cx="830592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Result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rustrating experiences:    228             14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op problem sources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web brows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mai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ystem (O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word process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ther internet us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ideo/audio softwa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at and instant messag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op 3 approache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knew how to solve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unable to solv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gured ou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9" name="hcil-logo" descr=""/>
          <p:cNvPicPr/>
          <p:nvPr/>
        </p:nvPicPr>
        <p:blipFill>
          <a:blip r:embed="rId1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08000" y="2500200"/>
            <a:ext cx="3377880" cy="26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le browser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ing tool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readsheet program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phic design program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tion softwa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base program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hardwa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5105520"/>
            <a:ext cx="38862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ottom 3 approach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onsulted manual/book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onsulted online help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started the progra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13840" y="1157400"/>
            <a:ext cx="30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MD          Tows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Result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45" name="hcil-logo" descr=""/>
          <p:cNvPicPr/>
          <p:nvPr/>
        </p:nvPicPr>
        <p:blipFill>
          <a:blip r:embed="rId1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2362320" y="3537000"/>
          <a:ext cx="4343400" cy="3321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3537000"/>
                    <a:ext cx="434340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62120" y="1143000"/>
            <a:ext cx="7695720" cy="2340000"/>
            <a:chOff x="762120" y="1143000"/>
            <a:chExt cx="7695720" cy="2340000"/>
          </a:xfrm>
        </p:grpSpPr>
        <p:grpSp>
          <p:nvGrpSpPr>
            <p:cNvPr id="150" name=""/>
            <p:cNvGrpSpPr/>
            <p:nvPr/>
          </p:nvGrpSpPr>
          <p:grpSpPr>
            <a:xfrm>
              <a:off x="767880" y="1144440"/>
              <a:ext cx="7683120" cy="2336760"/>
              <a:chOff x="767880" y="1144440"/>
              <a:chExt cx="7683120" cy="233676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767880" y="1144440"/>
                <a:ext cx="2861640" cy="302400"/>
                <a:chOff x="767880" y="1144440"/>
                <a:chExt cx="2861640" cy="3024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896400" y="1144440"/>
                  <a:ext cx="26038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Internet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7880" y="1144440"/>
                  <a:ext cx="286164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629880" y="1144440"/>
                <a:ext cx="2087280" cy="302400"/>
                <a:chOff x="3629880" y="1144440"/>
                <a:chExt cx="2087280" cy="3024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758400" y="1144440"/>
                  <a:ext cx="182952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Applications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629880" y="1144440"/>
                  <a:ext cx="20872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717520" y="1144440"/>
                <a:ext cx="2733480" cy="302400"/>
                <a:chOff x="5717520" y="1144440"/>
                <a:chExt cx="2733480" cy="3024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846040" y="1144440"/>
                  <a:ext cx="247572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Operating System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717520" y="1144440"/>
                  <a:ext cx="27334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767880" y="1446840"/>
                <a:ext cx="2861640" cy="574560"/>
                <a:chOff x="767880" y="1446840"/>
                <a:chExt cx="2861640" cy="5745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896400" y="1446840"/>
                  <a:ext cx="260388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timed out/dropped/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refused connections (32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67880" y="1446840"/>
                  <a:ext cx="286164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3629880" y="1446840"/>
                <a:ext cx="2087280" cy="574560"/>
                <a:chOff x="3629880" y="1446840"/>
                <a:chExt cx="2087280" cy="5745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758400" y="1446840"/>
                  <a:ext cx="182952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error messages (35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629880" y="1446840"/>
                  <a:ext cx="208728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5717520" y="1446840"/>
                <a:ext cx="2733480" cy="574560"/>
                <a:chOff x="5717520" y="1446840"/>
                <a:chExt cx="2733480" cy="5745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846040" y="1446840"/>
                  <a:ext cx="247572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crashes (16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717520" y="1446840"/>
                  <a:ext cx="273348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767880" y="2021760"/>
                <a:ext cx="2861640" cy="486360"/>
                <a:chOff x="767880" y="2021760"/>
                <a:chExt cx="2861640" cy="4863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896400" y="2021760"/>
                  <a:ext cx="26038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long download time (23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67880" y="2021760"/>
                  <a:ext cx="286164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629880" y="2021760"/>
                <a:ext cx="2087280" cy="486360"/>
                <a:chOff x="3629880" y="2021760"/>
                <a:chExt cx="2087280" cy="4863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758400" y="2021760"/>
                  <a:ext cx="18295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reezes (24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629880" y="2021760"/>
                  <a:ext cx="20872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717520" y="2021760"/>
                <a:ext cx="2733480" cy="486360"/>
                <a:chOff x="5717520" y="2021760"/>
                <a:chExt cx="2733480" cy="48636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846040" y="2021760"/>
                  <a:ext cx="24757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wrong response (10) 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17520" y="2021760"/>
                  <a:ext cx="27334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67880" y="2508120"/>
                <a:ext cx="2861640" cy="486360"/>
                <a:chOff x="767880" y="2508120"/>
                <a:chExt cx="2861640" cy="4863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896400" y="2508120"/>
                  <a:ext cx="26038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web page/site not found  (17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67880" y="2508120"/>
                  <a:ext cx="286164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629880" y="2508120"/>
                <a:ext cx="2087280" cy="486360"/>
                <a:chOff x="3629880" y="2508120"/>
                <a:chExt cx="2087280" cy="4863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758400" y="2508120"/>
                  <a:ext cx="18295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missing/ hard to find features (23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629880" y="2508120"/>
                  <a:ext cx="20872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717520" y="2508120"/>
                <a:ext cx="2733480" cy="486360"/>
                <a:chOff x="5717520" y="2508120"/>
                <a:chExt cx="2733480" cy="4863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5846040" y="2508120"/>
                  <a:ext cx="24757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slow response (8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717520" y="2508120"/>
                  <a:ext cx="27334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767880" y="2994840"/>
                <a:ext cx="2861640" cy="486360"/>
                <a:chOff x="767880" y="2994840"/>
                <a:chExt cx="2861640" cy="4863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896400" y="2994840"/>
                  <a:ext cx="26038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email (15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67880" y="2994840"/>
                  <a:ext cx="286164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629880" y="2994840"/>
                <a:ext cx="2087280" cy="486360"/>
                <a:chOff x="3629880" y="2994840"/>
                <a:chExt cx="2087280" cy="4863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3758400" y="2994840"/>
                  <a:ext cx="18295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crashes (13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629880" y="2994840"/>
                  <a:ext cx="20872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717520" y="2994840"/>
                <a:ext cx="2733480" cy="486360"/>
                <a:chOff x="5717520" y="2994840"/>
                <a:chExt cx="2733480" cy="4863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846040" y="2994840"/>
                  <a:ext cx="247572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unexpected message boxes  (6)</a:t>
                  </a: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717520" y="2994840"/>
                  <a:ext cx="2733480" cy="48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6" name=""/>
            <p:cNvSpPr/>
            <p:nvPr/>
          </p:nvSpPr>
          <p:spPr>
            <a:xfrm>
              <a:off x="762120" y="1143000"/>
              <a:ext cx="7695720" cy="23400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Minutes lost – UMD &amp; Towson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1905120"/>
            <a:ext cx="777240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1905120"/>
            <a:ext cx="3662280" cy="990360"/>
          </a:xfrm>
          <a:prstGeom prst="rect">
            <a:avLst/>
          </a:prstGeom>
          <a:solidFill>
            <a:srgbClr val="9933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1905120"/>
            <a:ext cx="896760" cy="990360"/>
          </a:xfrm>
          <a:prstGeom prst="rect">
            <a:avLst/>
          </a:prstGeom>
          <a:solidFill>
            <a:srgbClr val="cc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1905120"/>
            <a:ext cx="747720" cy="99036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1905120"/>
            <a:ext cx="523800" cy="990360"/>
          </a:xfrm>
          <a:prstGeom prst="rect">
            <a:avLst/>
          </a:prstGeom>
          <a:solidFill>
            <a:srgbClr val="00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3809880"/>
            <a:ext cx="647676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3809880"/>
            <a:ext cx="3063600" cy="990720"/>
          </a:xfrm>
          <a:prstGeom prst="rect">
            <a:avLst/>
          </a:prstGeom>
          <a:solidFill>
            <a:srgbClr val="9933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809880"/>
            <a:ext cx="1254240" cy="990720"/>
          </a:xfrm>
          <a:prstGeom prst="rect">
            <a:avLst/>
          </a:prstGeom>
          <a:solidFill>
            <a:srgbClr val="00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3809880"/>
            <a:ext cx="417240" cy="99072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3809880"/>
            <a:ext cx="27756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276720" y="5257800"/>
            <a:ext cx="2984400" cy="1251720"/>
            <a:chOff x="3276720" y="5257800"/>
            <a:chExt cx="2984400" cy="1251720"/>
          </a:xfrm>
        </p:grpSpPr>
        <p:sp>
          <p:nvSpPr>
            <p:cNvPr id="209" name=""/>
            <p:cNvSpPr/>
            <p:nvPr/>
          </p:nvSpPr>
          <p:spPr>
            <a:xfrm>
              <a:off x="3276720" y="5334120"/>
              <a:ext cx="212760" cy="152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76720" y="5562720"/>
              <a:ext cx="212760" cy="152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76720" y="5791320"/>
              <a:ext cx="212760" cy="152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76720" y="6019920"/>
              <a:ext cx="212760" cy="152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76720" y="6248520"/>
              <a:ext cx="212760" cy="152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03680" y="5257800"/>
              <a:ext cx="117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Emai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03680" y="5486400"/>
              <a:ext cx="117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OS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00440" y="5715000"/>
              <a:ext cx="20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Web browsing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00440" y="5943600"/>
              <a:ext cx="256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Other minutes los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00440" y="6172200"/>
              <a:ext cx="20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Productive minutes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477120" y="1371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otal minutes: 948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36576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277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7968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371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otal minutes lost: 425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365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4038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1513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2209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568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2096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M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114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Tows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42354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353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40384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294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902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877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3" name="hcil-logo" descr=""/>
          <p:cNvPicPr/>
          <p:nvPr/>
        </p:nvPicPr>
        <p:blipFill>
          <a:blip r:embed="rId1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267080" y="3657600"/>
            <a:ext cx="0" cy="228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3657600"/>
            <a:ext cx="0" cy="228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76920" y="1752480"/>
            <a:ext cx="0" cy="228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991720" y="1752480"/>
            <a:ext cx="0" cy="228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Next Step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lidate results with other us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fessional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lder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novi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evelop more precise monitoring software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e.g.  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www.bugtoaster.co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xplore ways to impr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Online help &amp; help desk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ustomer service &amp; online communiti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ducation &amp; train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oftware &amp; interface re-desig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5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41" name="hcil-logo" descr=""/>
          <p:cNvPicPr/>
          <p:nvPr/>
        </p:nvPicPr>
        <p:blipFill>
          <a:blip r:embed="rId1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371600" y="1911240"/>
            <a:ext cx="6705720" cy="410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762120" y="304920"/>
            <a:ext cx="8991360" cy="83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4c2b"/>
                </a:solidFill>
                <a:latin typeface="Times New Roman"/>
              </a:rPr>
              <a:t>2) Universal: Digital Divide Remains Troubl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0040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S. Department of Commerce,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ww.ntia.doc.gov/ntiahome/dn/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600200" y="1744560"/>
            <a:ext cx="5638680" cy="4351320"/>
          </a:xfrm>
          <a:prstGeom prst="rect">
            <a:avLst/>
          </a:prstGeom>
          <a:ln w="0">
            <a:noFill/>
          </a:ln>
        </p:spPr>
      </p:pic>
      <p:pic>
        <p:nvPicPr>
          <p:cNvPr id="247" name="hcil-logo" descr=""/>
          <p:cNvPicPr/>
          <p:nvPr/>
        </p:nvPicPr>
        <p:blipFill>
          <a:blip r:embed="rId2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1378080"/>
            <a:ext cx="899172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ercent of Internet Use by Educational Attain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2) Universal Usability in Practice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2820" t="19791" r="10000" b="5288"/>
          <a:stretch/>
        </p:blipFill>
        <p:spPr>
          <a:xfrm>
            <a:off x="1219320" y="1155600"/>
            <a:ext cx="7086600" cy="5168880"/>
          </a:xfrm>
          <a:prstGeom prst="rect">
            <a:avLst/>
          </a:prstGeom>
          <a:ln w="0">
            <a:noFill/>
          </a:ln>
        </p:spPr>
      </p:pic>
      <p:pic>
        <p:nvPicPr>
          <p:cNvPr id="252" name="hcil-logo" descr=""/>
          <p:cNvPicPr/>
          <p:nvPr/>
        </p:nvPicPr>
        <p:blipFill>
          <a:blip r:embed="rId2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516400" y="630864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www.otal.umd.edu/uupractice/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3) Useful: Generative Theorie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46280" y="121932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edictive &amp; explanatory theories are useful, but the big step forward will b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enerative theori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eories of human needs to guide our invention of new technologi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8" name="hcil-logo" descr=""/>
          <p:cNvPicPr/>
          <p:nvPr/>
        </p:nvPicPr>
        <p:blipFill>
          <a:blip r:embed="rId1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04920" y="1066680"/>
            <a:ext cx="8991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fferson: Life, Liberty &amp; the Pursuit of Happiness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osevelt: Freedom of speech &amp; expression, religion, 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from want, from fear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aslow: Hierarchy of human need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hysiologic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fe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ov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ste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elf-Actualization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ovey: Living, Loving, Learning &amp; Leaving a legacy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3) Theories of Human Need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83808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62" name="hcil-logo" descr=""/>
          <p:cNvPicPr/>
          <p:nvPr/>
        </p:nvPicPr>
        <p:blipFill>
          <a:blip r:embed="rId1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23920" y="102888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elf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working on your own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mily &amp; Friends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2-50 close intimate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lleagues &amp; Neighbo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50-5000 regular encounter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itizens &amp; Marke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5000 and more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3) Human Needs for Relationship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66" name="hcil-logo" descr=""/>
          <p:cNvPicPr/>
          <p:nvPr/>
        </p:nvPicPr>
        <p:blipFill>
          <a:blip r:embed="rId1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0"/>
            <a:ext cx="815328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A Systematic </a:t>
            </a: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Approach</a:t>
            </a: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 to Chang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63560" y="1790640"/>
            <a:ext cx="595656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The old computing is about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at computers can do,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33"/>
                </a:solidFill>
                <a:uFillTx/>
                <a:latin typeface="Times New Roman"/>
              </a:rPr>
              <a:t>The New Computing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is about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at people can do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2320" y="615456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www.cs.umd.edu/hcil/newcomput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2" name="hcil-logo" descr=""/>
          <p:cNvPicPr/>
          <p:nvPr/>
        </p:nvPicPr>
        <p:blipFill>
          <a:blip r:embed="rId1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22480" y="1417680"/>
            <a:ext cx="609588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ctiviti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llect:  Information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elate:   Communic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reate:   Innov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57896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nate:  Disseminatio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3) Human Needs for Activiti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3812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71" name="hcil-logo" descr=""/>
          <p:cNvPicPr/>
          <p:nvPr/>
        </p:nvPicPr>
        <p:blipFill>
          <a:blip r:embed="rId1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3) Activities and Relationship Table (ART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-609480" y="16765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elationship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elf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mily &amp; Frien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lleagues &amp; Neighbo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itizenry &amp; Marke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9880" y="1066680"/>
            <a:ext cx="5334120" cy="23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ctivi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ollect     Relate    Create    Donate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962520" y="2209680"/>
          <a:ext cx="4647960" cy="3429000"/>
        </p:xfrm>
        <a:graphic>
          <a:graphicData uri="http://schemas.openxmlformats.org/drawingml/2006/table">
            <a:tbl>
              <a:tblPr/>
              <a:tblGrid>
                <a:gridCol w="1162080"/>
                <a:gridCol w="1161720"/>
                <a:gridCol w="1162080"/>
                <a:gridCol w="116208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7" name="hcil-logo" descr=""/>
          <p:cNvPicPr/>
          <p:nvPr/>
        </p:nvPicPr>
        <p:blipFill>
          <a:blip r:embed="rId1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3) Future Direc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3812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1371600"/>
            <a:ext cx="72392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4c2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-learning: The new educ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4c2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-business: The new commer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4c2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-healthcare: The new medici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4c2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-government: The new politics</a:t>
            </a:r>
            <a:br>
              <a:rPr sz="3200"/>
            </a:b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4c2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ega-creativ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4c2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rander Goals &amp; The Next Leonard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4c2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2" name="hcil-logo" descr=""/>
          <p:cNvPicPr/>
          <p:nvPr/>
        </p:nvPicPr>
        <p:blipFill>
          <a:blip r:embed="rId1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950840" y="623268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www.cs.umd.edu/hcil/newcomput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An Inspirational Muse:</a:t>
            </a:r>
            <a:br>
              <a:rPr sz="3600"/>
            </a:b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   Leonardo da Vinci (1452-1519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9000" y="205740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enaissance M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ombined science &amp; a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tegrated engineering &amp; esthetic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alanced technology advancement   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&amp; human valu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rged visionary &amp; practic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5" name="self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667240" cy="4084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5800" y="160020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7" name="hcil-logo" descr=""/>
          <p:cNvPicPr/>
          <p:nvPr/>
        </p:nvPicPr>
        <p:blipFill>
          <a:blip r:embed="rId2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Leonardo’s Laptop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CIL Symposiu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aying attendees wil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ceive a copy aroun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ptember 1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IT Pres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ctober 200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1" name="hcil-logo" descr=""/>
          <p:cNvPicPr/>
          <p:nvPr/>
        </p:nvPicPr>
        <p:blipFill>
          <a:blip r:embed="rId1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pic>
        <p:nvPicPr>
          <p:cNvPr id="102" name="shneiderman3-cover" descr=""/>
          <p:cNvPicPr/>
          <p:nvPr/>
        </p:nvPicPr>
        <p:blipFill>
          <a:blip r:embed="rId2"/>
          <a:stretch/>
        </p:blipFill>
        <p:spPr>
          <a:xfrm>
            <a:off x="4842000" y="380880"/>
            <a:ext cx="4302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world" descr=""/>
          <p:cNvPicPr/>
          <p:nvPr/>
        </p:nvPicPr>
        <p:blipFill>
          <a:blip r:embed="rId1"/>
          <a:srcRect l="0" t="0" r="7724" b="0"/>
          <a:stretch/>
        </p:blipFill>
        <p:spPr>
          <a:xfrm>
            <a:off x="5657760" y="1036800"/>
            <a:ext cx="1903680" cy="2068200"/>
          </a:xfrm>
          <a:prstGeom prst="rect">
            <a:avLst/>
          </a:prstGeom>
          <a:ln w="22320">
            <a:solidFill>
              <a:srgbClr val="578963"/>
            </a:solidFill>
            <a:miter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Goals for The New Computing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228600" y="857160"/>
            <a:ext cx="678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1) Usable: Reliable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&amp; comprehensib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2) Universal: Diverse users 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&amp; varied equipment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3) Useful: In harmony with  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         human need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0192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776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8" name="ldv_oldmen" descr=""/>
          <p:cNvPicPr/>
          <p:nvPr/>
        </p:nvPicPr>
        <p:blipFill>
          <a:blip r:embed="rId2"/>
          <a:srcRect l="0" t="8506" r="0" b="19961"/>
          <a:stretch/>
        </p:blipFill>
        <p:spPr>
          <a:xfrm>
            <a:off x="6288120" y="2959200"/>
            <a:ext cx="2286000" cy="2022480"/>
          </a:xfrm>
          <a:prstGeom prst="rect">
            <a:avLst/>
          </a:prstGeom>
          <a:ln w="22320">
            <a:solidFill>
              <a:srgbClr val="578963"/>
            </a:solidFill>
            <a:miter/>
          </a:ln>
        </p:spPr>
      </p:pic>
      <p:pic>
        <p:nvPicPr>
          <p:cNvPr id="109" name="citta1_d_sm" descr="">
            <a:hlinkClick r:id="rId3"/>
          </p:cNvPr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5599080" y="4840200"/>
            <a:ext cx="1981080" cy="1676520"/>
          </a:xfrm>
          <a:prstGeom prst="rect">
            <a:avLst/>
          </a:prstGeom>
          <a:ln w="22320">
            <a:solidFill>
              <a:srgbClr val="578963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685800" y="83808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hcil-logo" descr=""/>
          <p:cNvPicPr/>
          <p:nvPr/>
        </p:nvPicPr>
        <p:blipFill>
          <a:blip r:embed="rId5"/>
          <a:stretch/>
        </p:blipFill>
        <p:spPr>
          <a:xfrm>
            <a:off x="0" y="6033960"/>
            <a:ext cx="1041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Usable: Ending User Frustration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oal - make computer usage less frustrat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dentify top ten frustration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easure severity &amp; frequency in lost ti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termine if the situation is improving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lated area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rro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ime delay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motional reaction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4108320"/>
            <a:ext cx="4114800" cy="1817640"/>
          </a:xfrm>
          <a:prstGeom prst="rect">
            <a:avLst/>
          </a:prstGeom>
          <a:ln w="0">
            <a:noFill/>
          </a:ln>
        </p:spPr>
      </p:pic>
      <p:pic>
        <p:nvPicPr>
          <p:cNvPr id="115" name="hcil-logo" descr=""/>
          <p:cNvPicPr/>
          <p:nvPr/>
        </p:nvPicPr>
        <p:blipFill>
          <a:blip r:embed="rId2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Frequent frustrating experience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18" name="linebusy" descr=""/>
          <p:cNvPicPr/>
          <p:nvPr/>
        </p:nvPicPr>
        <p:blipFill>
          <a:blip r:embed="rId1"/>
          <a:stretch/>
        </p:blipFill>
        <p:spPr>
          <a:xfrm>
            <a:off x="304920" y="1865160"/>
            <a:ext cx="4190760" cy="2711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438280" y="4764240"/>
            <a:ext cx="5639040" cy="1635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19104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1" name="server" descr=""/>
          <p:cNvPicPr/>
          <p:nvPr/>
        </p:nvPicPr>
        <p:blipFill>
          <a:blip r:embed="rId3"/>
          <a:stretch/>
        </p:blipFill>
        <p:spPr>
          <a:xfrm>
            <a:off x="4724280" y="1917720"/>
            <a:ext cx="4114800" cy="2327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86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Networking &amp; We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3" name="hcil-logo" descr=""/>
          <p:cNvPicPr/>
          <p:nvPr/>
        </p:nvPicPr>
        <p:blipFill>
          <a:blip r:embed="rId4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rash02" descr=""/>
          <p:cNvPicPr/>
          <p:nvPr/>
        </p:nvPicPr>
        <p:blipFill>
          <a:blip r:embed="rId1"/>
          <a:srcRect l="0" t="0" r="4056" b="12970"/>
          <a:stretch/>
        </p:blipFill>
        <p:spPr>
          <a:xfrm>
            <a:off x="2209680" y="2894040"/>
            <a:ext cx="6858000" cy="3887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Application &amp; System Crashes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27" name="crash01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128" name="hcil-logo" descr=""/>
          <p:cNvPicPr/>
          <p:nvPr/>
        </p:nvPicPr>
        <p:blipFill>
          <a:blip r:embed="rId3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Frequent frustrating experienc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1) Time diary study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lf reports &amp; observations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64 UMD &amp; 47 Towso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-session survey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mographic inform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mputer experience and attitud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evel of computer anxiety, moo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sers spent 1 hour &amp; report their frustrating experienc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 algn="just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t-session survey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ssess mood after the sess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overall frustration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oss of ti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6172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orida Institute of Technology (</a:t>
            </a:r>
            <a:r>
              <a:rPr b="1" lang="en-US" sz="1800" spc="-1" strike="noStrike">
                <a:solidFill>
                  <a:srgbClr val="333333"/>
                </a:solidFill>
                <a:latin typeface="Courier New"/>
              </a:rPr>
              <a:t>e3.se.fit.edu:5335/ufs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4" name="hcil-logo" descr=""/>
          <p:cNvPicPr/>
          <p:nvPr/>
        </p:nvPicPr>
        <p:blipFill>
          <a:blip r:embed="rId1"/>
          <a:stretch/>
        </p:blipFill>
        <p:spPr>
          <a:xfrm>
            <a:off x="0" y="6040440"/>
            <a:ext cx="1041480" cy="817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22:09:54Z</dcterms:created>
  <dc:creator>Irina</dc:creator>
  <dc:description/>
  <dc:language>en-US</dc:language>
  <cp:lastModifiedBy>tharris</cp:lastModifiedBy>
  <dcterms:modified xsi:type="dcterms:W3CDTF">2002-06-24T21:43:58Z</dcterms:modified>
  <cp:revision>77</cp:revision>
  <dc:subject/>
  <dc:title>Determining Causes of User Frust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8265676</vt:r8>
  </property>
  <property fmtid="{D5CDD505-2E9C-101B-9397-08002B2CF9AE}" pid="3" name="_AuthorEmailDisplayName">
    <vt:lpwstr>Bederson, Ben</vt:lpwstr>
  </property>
  <property fmtid="{D5CDD505-2E9C-101B-9397-08002B2CF9AE}" pid="4" name="_EmailSubject">
    <vt:lpwstr>SOH ppt files - part 1</vt:lpwstr>
  </property>
</Properties>
</file>